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7F0-3C70-490A-AA3D-AEBF859CAC0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C5F-3EC8-43DE-8451-14EBA577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A7C-C3C6-43CF-AA30-3C30BDC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269-55F0-4E5A-8E7B-6FAD3D2D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617-A4AE-45B1-9B29-043C7569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F72-5F0E-4EC4-9858-41785645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39D-FF22-47E8-9AB1-8A56E3B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CDDF-330C-4990-89A4-69D6DFDF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28E7-985B-48DA-869F-1C8616F8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03E-67C9-4E35-BDD2-1AE993E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4AF-E6E9-4BEF-BD44-8585ABB9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BA5-898B-4FC4-844E-81A4254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A70-6228-4D12-A54C-56C1AAF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ECD-50A3-4874-9072-78FA9F8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5080-9804-40F8-8B08-930F38C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249-FD67-4F9B-B89E-2690728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A7DB-3CB4-4D1F-A292-BEB87E73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1C8-8824-48AE-8AFC-0404AED6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70F-5B08-4DD0-BB0E-DFFA4E8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287-6929-46E8-83E3-77E53F8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30B-B014-476B-BBC1-C406550B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564-85AC-4CB6-A732-851AADB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45F-10DD-4D09-A492-C5BA7F1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23D-74E0-4798-90FF-59CF85F0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BAB-6651-4D35-B17B-C4EC309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7D9E-4FF7-45CF-A213-16185AE28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7348-8499-49FE-AAE8-4523F9ED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gulace na úrovni organism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rvový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ychlé vedení  jemně odstupňovaných signá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krinní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malé, chronické přenášení signálů, k překonání větších vzdáleností v těle používá krevní obě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Zrání foliku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440" y="30481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maturace%20fol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2392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Ultrazvukový snímek vaječníků ve folikulární fázi menstruačního cyklu</a:t>
            </a:r>
            <a:br>
              <a:rPr sz="4400"/>
            </a:b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 2den                 8 de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8" name="folikulAB" descr=""/>
          <p:cNvPicPr/>
          <p:nvPr/>
        </p:nvPicPr>
        <p:blipFill>
          <a:blip r:embed="rId2"/>
          <a:stretch/>
        </p:blipFill>
        <p:spPr>
          <a:xfrm>
            <a:off x="0" y="2376360"/>
            <a:ext cx="9144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Ultrazvukový snímek vaječníků ve folikulární fázi menstruačního cyklu</a:t>
            </a:r>
            <a:br>
              <a:rPr sz="4400"/>
            </a:b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 13 d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0" name="folikolC2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2g2" descr=""/>
          <p:cNvPicPr/>
          <p:nvPr/>
        </p:nvPicPr>
        <p:blipFill>
          <a:blip r:embed="rId2"/>
          <a:stretch/>
        </p:blipFill>
        <p:spPr>
          <a:xfrm>
            <a:off x="1828800" y="0"/>
            <a:ext cx="42782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2f3" descr=""/>
          <p:cNvPicPr/>
          <p:nvPr/>
        </p:nvPicPr>
        <p:blipFill>
          <a:blip r:embed="rId2"/>
          <a:stretch/>
        </p:blipFill>
        <p:spPr>
          <a:xfrm>
            <a:off x="1600200" y="103320"/>
            <a:ext cx="678024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2f4" descr=""/>
          <p:cNvPicPr/>
          <p:nvPr/>
        </p:nvPicPr>
        <p:blipFill>
          <a:blip r:embed="rId2"/>
          <a:stretch/>
        </p:blipFill>
        <p:spPr>
          <a:xfrm>
            <a:off x="0" y="762120"/>
            <a:ext cx="91947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Estrogeny- </a:t>
            </a: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estron ,estradiol, estrio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ídají za funkci reprodukčních orgánů a vývoj sekundárních pohlavních zna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ídají za tloustnutí endometria ve folikulární fá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 folikulární fázi zcitlivují adenohypofýzu k působení GnRF a tím i sekreci FSH a LH (pozitvní zpětná vazb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sekreční fázi snižují sekreci LH a FSH (negativní zpětná vazb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rogesteron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dukován žlutým tělískem a placen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 většinu účinků je nezbytné předchozí působení estradiol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růst děložní svaloviny (myometriu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jišťuje přeměnu děložní sliznice (endometrium) v sekreční fázi přestavba žlázek, mění cévní zásobení a obsah glykogenu (důležité pro udržení ranného těhotenstv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vyšuje bazální teplotu o půl stupně Cel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lumí uvolňování LH, mění konzistenci cervikální hlenové zát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stoster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olňování  pod vlivem LH a TS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etizován v Leydigových buňkách varlat (pod vlivem LH, dříve nazýván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 ICSH - hormon stimulující intersticiální buňk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, FSH podporuje syntézu vazebného proteinu pro androgeny (receptoru) v Sertoliho podpůrných buňk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jišťuje průběh spermatogene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imuluje činnost prostaty a semenných váč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voj sekundárních pohlavních zna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bolický ef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enos signá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smos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ynaptická propoj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rakrin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dokrin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ierarchie hormonů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ypothala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olňovací hormony - liberiny(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hibující hormony- stat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enohypofy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opiny  (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ílová endokrinní žláz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ečné hormony  (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-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ílová tká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2b1" descr=""/>
          <p:cNvPicPr/>
          <p:nvPr/>
        </p:nvPicPr>
        <p:blipFill>
          <a:blip r:embed="rId2"/>
          <a:stretch/>
        </p:blipFill>
        <p:spPr>
          <a:xfrm>
            <a:off x="2286000" y="49320"/>
            <a:ext cx="46069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dokrinní systém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eptidové hormony a glykoprote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ceptory na povrchu buněk (cytoplasmatick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eroidní horm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ceptorové proteiny uvnitř buněk (jader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rmony odvozené od  tyrosi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mony štítné žlázy – jaderné recep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atecholaminy- cytoplasmatické recep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g%20prot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153040" cy="4741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řenos signálu v buň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mplifikace" descr=""/>
          <p:cNvPicPr/>
          <p:nvPr/>
        </p:nvPicPr>
        <p:blipFill>
          <a:blip r:embed="rId2"/>
          <a:stretch/>
        </p:blipFill>
        <p:spPr>
          <a:xfrm>
            <a:off x="1479600" y="0"/>
            <a:ext cx="62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osyntéza steroidních hormonů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 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gnenol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 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gester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 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hydroepiandroste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drostendion        testoste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stron                   estradio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6668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365760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6576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3526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3526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34340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76560" y="3657600"/>
            <a:ext cx="7596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36576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426708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2670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5880" y="45720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54100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81480" y="57150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eroidní hormon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hlavní žlázy, kůra nadledvin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vozeny od cholesterol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androgen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9 C (testoster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estrogeny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8 C (b-estradi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progestin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1 C (progester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5:59:12Z</dcterms:created>
  <dc:creator>MichaW</dc:creator>
  <dc:description/>
  <dc:language>en-US</dc:language>
  <cp:lastModifiedBy>MichaW</cp:lastModifiedBy>
  <dcterms:modified xsi:type="dcterms:W3CDTF">2001-04-30T12:15:31Z</dcterms:modified>
  <cp:revision>2</cp:revision>
  <dc:subject/>
  <dc:title>Regulace na úrovni organismu</dc:title>
</cp:coreProperties>
</file>